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MC Zorp speciális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ányok paramétereinek beáll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52440" y="1708200"/>
            <a:ext cx="6858000" cy="16272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41840" y="3533760"/>
            <a:ext cx="5272200" cy="389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32640" y="2162160"/>
            <a:ext cx="1603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éter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álli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883200" y="2576520"/>
            <a:ext cx="5158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7770600" y="2909880"/>
            <a:ext cx="36324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6320" y="3976560"/>
            <a:ext cx="36993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lás specifikus beálli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76520" y="4448160"/>
            <a:ext cx="1606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0240" y="5459400"/>
            <a:ext cx="3088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gosultságok,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álli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36880" y="5818320"/>
            <a:ext cx="199548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4920" y="4627440"/>
            <a:ext cx="3418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ális szálak szá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den kapcsolat egy szá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13040" y="4932360"/>
            <a:ext cx="135756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5960" y="6512040"/>
            <a:ext cx="34876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bind ip, a TPROXY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933720" y="6482880"/>
            <a:ext cx="247968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ányok irány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9640" y="2022480"/>
            <a:ext cx="66193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rp újrainditása, elinditása, leállitása példányonké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9840" y="2593800"/>
            <a:ext cx="6858000" cy="162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3520" y="5284800"/>
            <a:ext cx="4414680" cy="151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7400" y="4599000"/>
            <a:ext cx="37328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választott példány vezér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099040" y="4057200"/>
            <a:ext cx="76212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7440" y="4862520"/>
            <a:ext cx="116352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olgáltatás keres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9840" y="2081160"/>
            <a:ext cx="6449760" cy="162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11440" y="4478400"/>
            <a:ext cx="5889600" cy="2568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49760" y="3948120"/>
            <a:ext cx="17899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viz keres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992320" y="3531960"/>
            <a:ext cx="138600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51280" y="4211640"/>
            <a:ext cx="257652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7520" y="1940040"/>
            <a:ext cx="2969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k szerviz eset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ors keresési lehető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2560" y="3879720"/>
            <a:ext cx="3638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viz neve alapján (regex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97240" y="4238640"/>
            <a:ext cx="37764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68040" y="4475160"/>
            <a:ext cx="1873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znált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ztály alapj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67040" y="4862520"/>
            <a:ext cx="25909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9880" y="5348160"/>
            <a:ext cx="20869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 cim alapj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01800" y="5527800"/>
            <a:ext cx="206388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19200"/>
            <a:ext cx="860724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ónák által nyújtott szolgáltatás keres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3173400" cy="83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79680" y="2452680"/>
            <a:ext cx="7472520" cy="4944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0280" y="2825640"/>
            <a:ext cx="1721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98640" y="2296800"/>
            <a:ext cx="108108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03560" y="2865240"/>
            <a:ext cx="776160" cy="16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3727440"/>
            <a:ext cx="15858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rás zón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81080" y="3781440"/>
            <a:ext cx="164952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9360" y="1731960"/>
            <a:ext cx="12290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él zón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243560" y="2174760"/>
            <a:ext cx="30780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560" y="4724280"/>
            <a:ext cx="2340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tt zóná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edélyeze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viez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67040" y="5278320"/>
            <a:ext cx="146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5040" y="6151680"/>
            <a:ext cx="2486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viz informáci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30560" y="5970600"/>
            <a:ext cx="461304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orp zóna konfigur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6680" y="3151080"/>
            <a:ext cx="7918200" cy="409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50840" y="2189160"/>
            <a:ext cx="19256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a hierarch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24200" y="2660760"/>
            <a:ext cx="7272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9440" y="2411280"/>
            <a:ext cx="23857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brella beálli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894440" y="2854440"/>
            <a:ext cx="82044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95080" y="2825640"/>
            <a:ext cx="5240520" cy="207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03-06-23T15:51:13Z</dcterms:modified>
  <cp:revision>2</cp:revision>
  <dc:subject/>
  <dc:title>ZMC Zorp speciális beállítások</dc:title>
</cp:coreProperties>
</file>